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A893-C491-4A63-B78E-C2315E0B1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FFAD-CC51-491D-B3CD-381F69B47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EA01-8320-458D-AA9F-93D82776B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338A-D197-43C1-B262-D0DF1DBC0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30B1A-5C30-432B-8FC2-B999D1520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D7440-A198-4DB7-ACB5-3152FBFDC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AFE17-58D4-493B-A88E-3F38BE2FF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7B758-5433-4855-819B-0674B932B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48842-FA8F-4056-8EBE-5BC7FD27E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4BDC7-4F66-4688-9BA6-9B1F140AE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DF615-181D-410A-9D83-50EFFBF5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98BD-F72D-4327-A95F-61BF101E1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F9D5C-4DB9-4DB2-B8B3-54DD671C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10BD5-3329-4BF5-AEC7-FD7A4728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046BB-BD75-45A7-B4EB-56911DAF9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4F3EF-C0D4-4513-B989-748BACD0E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F16C3-29FE-4C7F-9842-BF176677A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DFFE-E2D2-4681-B789-2AB162D76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7EE7-AC7D-4091-B81D-73230B160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C5D7-B211-4C0B-90E5-9751444B7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10B7-A0C3-4E40-A690-573D222A7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0CA6-DDD1-4F06-907C-AD334052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AA9C-A4B1-49D3-A149-160EE887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47DB-E841-4689-A6EB-58CAC3CA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http://imagebase.davidniblack.com/main.php?g2_view=core.DownloadItem&amp;g2_itemId=3266&amp;g2_serialNumber=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6B8F9-3A9A-4DE2-BBC8-13B0F39BD5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http://imagebase.davidniblack.com/main.php?g2_view=core.DownloadItem&amp;g2_itemId=3266&amp;g2_serialNumber=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2"/>
          <p:cNvSpPr/>
          <p:nvPr/>
        </p:nvSpPr>
        <p:spPr>
          <a:xfrm>
            <a:off x="63360" y="-88416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C6ECF-B059-464D-9C70-C0BAB37A03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hapter 13 – Phase Chang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ages 401-403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esentation by Sam O’Connell and Alec Snyd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AutoShape 2"/>
          <p:cNvSpPr/>
          <p:nvPr/>
        </p:nvSpPr>
        <p:spPr>
          <a:xfrm>
            <a:off x="63360" y="-88416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ublim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6840" y="1599840"/>
            <a:ext cx="5715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Changing of solid to gas/vapor without passing through liquid state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Occurs b/c solids have vapor pressure (like liquids)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Occurs in solids w/ vapor pressures exceeding atmospheric pressure at/near room temp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odine, freeze-drying, dry ice, solid air fresheners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Used to separate mixtures and purify compounds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Picture 4" descr="http://ts4.mm.bing.net/images/thumbnail.aspx?q=4973001432040087&amp;id=21e568149bdaed096800fa123716c328&amp;url=http%3a%2f%2fwww.chemistryland.com%2fCHM130FieldLab%2fLab4%2fiodine-sublimation-8crop.jpg"/>
          <p:cNvPicPr/>
          <p:nvPr/>
        </p:nvPicPr>
        <p:blipFill>
          <a:blip r:embed="rId1"/>
          <a:stretch/>
        </p:blipFill>
        <p:spPr>
          <a:xfrm>
            <a:off x="6362640" y="2362320"/>
            <a:ext cx="24764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hase Diagra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raph representing solid, liquid, and vapor states’ relationship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ives conditions (temp., pressure) for existence of solids, liquids, and vapor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onditions where two phases exists at perfect balance (equilibrium) indicated by line separating phase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riple point – set of conditions that all three phases can exist at equilibrium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ritical Point – critical/maximum conditions substance can exist as liquid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hase Diagrams Characteristic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crease in pressure → Lower boiling poi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crease in pressure → Higher melting poi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crease in pressure → Higher boiling poi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crease in pressure → Lower melting poi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5" name="Picture 2" descr="http://t3.gstatic.com/images?q=tbn:ANd9GcTCCmdoxTK0VS4ETxAtI6r92N_kGSObvW5B0Pj1-xgzT3YYfihtGQ"/>
          <p:cNvPicPr/>
          <p:nvPr/>
        </p:nvPicPr>
        <p:blipFill>
          <a:blip r:embed="rId1"/>
          <a:stretch/>
        </p:blipFill>
        <p:spPr>
          <a:xfrm>
            <a:off x="3581280" y="4114800"/>
            <a:ext cx="188604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terpreting Triple Poin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elow triple point → no vapor, liquid equilibriu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creasing pressure doesn’t change vapor to liqui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crease in pressure → vapor behaves more like solid (not as easily compressed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ater Phase Diagra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http://boomeria.org/chemlectures/textass2/fig17-9.jpg"/>
          <p:cNvPicPr/>
          <p:nvPr/>
        </p:nvPicPr>
        <p:blipFill>
          <a:blip r:embed="rId2"/>
          <a:stretch/>
        </p:blipFill>
        <p:spPr>
          <a:xfrm>
            <a:off x="1371600" y="1214280"/>
            <a:ext cx="640080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bjective Answe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1. Sublimation is the changing of a solid to a vapor without passing through the liquid state. It occurs because solids have vapor pressures, just like liquids do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2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3" name="Picture 2" descr="http://www.nvsd44.bc.ca/sites/img/2/2-470-27984.jpg"/>
          <p:cNvPicPr/>
          <p:nvPr/>
        </p:nvPicPr>
        <p:blipFill>
          <a:blip r:embed="rId1"/>
          <a:stretch/>
        </p:blipFill>
        <p:spPr>
          <a:xfrm>
            <a:off x="2895480" y="3809880"/>
            <a:ext cx="333396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bjective Answe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23. The triple point describes the only set of conditions at which all three phases (solid, liquid, and gas/vapor) can coexist at equilibrium with one another. The critical point indicates the critical conditions (temperature and pressure) above which a substance can’t exist as a liquid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24. The lines on a phase diagram show the equilibrium borders/trends for substances per state of matter (solid-liquid, liquid-vapor, solid-vapor)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6T17:52:40Z</dcterms:created>
  <dc:creator>14asnyder</dc:creator>
  <dc:description/>
  <dc:language>en-US</dc:language>
  <cp:lastModifiedBy>udsd</cp:lastModifiedBy>
  <dcterms:modified xsi:type="dcterms:W3CDTF">2012-04-27T14:24:23Z</dcterms:modified>
  <cp:revision>13</cp:revision>
  <dc:subject/>
  <dc:title>Chapter 13 – Phase Change</dc:title>
</cp:coreProperties>
</file>